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049-2495-41F3-A880-280CD5BB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BD7-EC51-43B5-9843-51AE6F82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61D-03A5-4791-BDA9-02796B05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0A5-ACEB-4E48-A1A0-521980F1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08B-BADA-4007-9254-41DDDEA0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EBE-7304-4232-8F0B-CC780360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C87-9B74-4780-923E-1020C795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4A9-9280-44D6-A48B-C0FF53B4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77C4-279F-492E-B84D-FDD0E26E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1249-F214-433A-BCC5-A867C984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E59-3F1D-4AC1-917C-9E63E98D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10F-D02F-4EB3-B357-2D16306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C11-3918-45C8-9504-91E003C62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ears381class2011.wikispaces.com/Writing+Essential+Qs+for+Conceptual+Knowledg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—some people struggle with writing essential qs for concepts like “character,” “point of view,” etc.  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xamples of questions that address these concep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you tell when or if prejudice is getting in the way of making the right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prejudice just about race or are there other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prejudice com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society’s social implications impact prejudi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 we stand to lose when we participate in a societal standard we know is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oint of view affect how stories are told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it matter who tells the story?  Whose story gets to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ever okay to be dishone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ll people deserve to be treated the same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cour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prejudice guide people’s ac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akes a family?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63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636040" cy="57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V video that addresses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write a newspaper article that explains the tr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alk show with character inter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write a play of the trial, write an explanation of why they wrote what they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ick a section of the book and retell from a different point of view, justify why do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Phil Bear</cp:lastModifiedBy>
  <dcterms:modified xsi:type="dcterms:W3CDTF">2011-02-12T18:25:06Z</dcterms:modified>
  <cp:revision>11</cp:revision>
  <dc:subject/>
  <dc:title>PowerPoint Presentation</dc:title>
</cp:coreProperties>
</file>